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DA92-FAA9-4D01-A44A-F532EC57D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BBA5-D496-4157-931B-3B5FE2D1D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7E20-2083-4090-9203-220A90605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72F5-9604-4837-A019-FC595DAA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CFA1-1AD2-4359-A457-ED1165C88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487E-AC84-4B6D-AAC7-9303C3926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DBF4-E228-4891-A746-D878C468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5511-B698-4629-B13A-69BCB1F2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8E9E-544C-4EF5-8D90-570454DA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A083-9563-4644-A0AD-1D108E5F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9481-77B9-41FC-8752-77AA1CA5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6462-E7F5-406F-B303-9A0A7123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41D8-792B-44FD-9F7D-6A29AAD8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EC7C-B2DB-40E6-90E1-78943ADD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5C67-E1B2-4814-BC80-5B8005F5C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iara Zapa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Tu descripción….me llamo Somaiya Jalil.  Vivo en America. .Tengo catorce años. Yo tengo dos hermanos. Yo soy petit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, te amo uno directiono y justin bieber ¿y tu? Juntos podemos cambriar el mundo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 me gusta para abrir libros grande. Tu eres bonita. Mi hermano tiene siete aÑo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l es lindo. Somos jovenes y tenemos que vivir la vida al maximo. Estamos felic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Usted esta aburrido. Mis familia,  estan trist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048120"/>
            <a:ext cx="3657600" cy="7617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, yo tengo muchos amigos. ¿Cuantos amigos tienes? ¿Cuantos miembr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De la familia tu tienes? Yo tengo quatro miembros de la familia, mis mama, papa, 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Dos hermanos. Ellos amor alimento. Nosotros tenemos una familia feliz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Ellos tienen muchas diversion. Buenos noch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, buenos dias. ¿como esta?  ¿Cuantos años tienes? Tengo catorse an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soy joven, feliz, energetico, diversion, cansado, y inteligent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donde quieres vivir? Yo quiero vivir en Ireland, London, y Canada. Adios amiga.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74320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3-01-02T18:31:41Z</dcterms:modified>
  <cp:revision>117</cp:revision>
  <dc:subject/>
  <dc:title>Profile</dc:title>
</cp:coreProperties>
</file>